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77D-CFF3-498D-9DC7-BCCBE8CE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CA7-A2B8-453D-BAF6-E700174D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0B7-DFDD-4F13-8E62-5F3B6E3B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3B8-D3E3-4116-8AAB-7ABF4F4C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20A9-A63B-43BF-AF99-126DD843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08C9-14D2-4FE6-BB8B-B1738FAB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25CA-266C-41C2-9199-710CDC81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7DC1-ECF0-41A9-B9B1-0755469F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0726-FBD7-4B73-9B5F-5195A4DD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F86C-15F1-4E79-865B-176581A6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8AFA-91A7-487C-BDE6-A2D8E9D6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C57-8CDF-4EA4-BCB8-983E1915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4D00-008A-46E6-9418-72A78FB9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75A5-C674-4AD0-99C4-87DFA12A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E3F1-1832-474C-AF80-E0A9F492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F019-DF69-4581-9914-6B595D61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160F-878D-4300-B2B9-1777BFF1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B15-8009-4640-B191-923C8ABC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EA0-90B1-463A-BCA9-83A3576D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2B3-F13F-42BD-9AEE-AB2D4555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2CF-2633-4BA6-8405-61168A50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4E8-0A7C-456D-AEEC-D6E482FB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324-876F-4EA6-B537-364631F1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603-2B2A-4C9F-89E9-08FEB5B0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1C5A-AF8E-4D3B-9799-E8D4BE76BF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F062-C460-4CF5-A35A-88E6CFC4BB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 The Days of the Judg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63600"/>
            <a:ext cx="797724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Jephthah’s Clash With Ephraimit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phraimites are incensed against Jephth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he did not call them to war against the Ammon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threaten his destruction, v.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vindicates himself, v. 2-3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rms the Gileadites against the men of Ephra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fight against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kill forty-two thousand Ephraimites at the passages of Jordan, v. 4-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5791320" y="762120"/>
            <a:ext cx="205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phrai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5880" y="228600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ilea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514600" y="990720"/>
            <a:ext cx="3200400" cy="3047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8640" y="2743200"/>
            <a:ext cx="243828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Next Three Judg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phthah dies, having judged Israel six years, v. 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zan judges for seven years, v. 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osterity and death, v. 9-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on judges for ten years, and dies, v. 11-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don judges for eight years, v. 1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osterity and death, v. 14-1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 Coming Jud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sraelites corrupt themselves, and are delivered into the hands of the Philistines forty years, v.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ngel appears to the wife of Manoah, foretells the birth of her 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her directions how to treat both herself and her child, who was to be a deliverer of Israel, v. 2-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informs her husband of this transaction, v. 6-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Coming Jud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oah prays that the Angel may reapp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el repeats his former directions concerning the mother and the child, v. 8-1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oah presents an offering to the Lord, and the Angel ascends in the flame, v. 15-2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oah is alarmed, but is comforted by the judicious reflections of his wife, v. 21-2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son is born, and begins to feel the influence of the Divine Spirit, v. 24-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mson’s Weaknesses And Strength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son marries a wife of the Philistines, 14:1-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ays a young lion at Timnath, in the carcass of which he afterwards finds a swarm of bees, v. 5-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makes a f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appoint him thirty companions, to whom he puts forth a riddle, which they cannot expound, v. 10-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entice his wife to get the interpretation from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e succeeds, informs them, and they tell the explanation, v. 15-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is incensed, and slays thirty of the Philistines, v. 19-2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5:49:30Z</dcterms:created>
  <dc:creator>Terry W. Benton</dc:creator>
  <dc:description/>
  <dc:language>en-US</dc:language>
  <cp:lastModifiedBy>Terry W. Benton</cp:lastModifiedBy>
  <dcterms:modified xsi:type="dcterms:W3CDTF">2005-02-14T16:46:45Z</dcterms:modified>
  <cp:revision>1</cp:revision>
  <dc:subject/>
  <dc:title>In The Days of the Judges</dc:title>
</cp:coreProperties>
</file>